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AE9-F1DA-4DC7-9D72-50B74E3A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0DF-12B1-4966-889B-D638423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A2D-3BAE-4318-8AF1-9F2D5A1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3FE-2D6A-4001-8486-1DB415A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A7B-9409-4392-B62A-83E69787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69B-627D-4D43-A099-4D37A16E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258-0095-4D41-807B-D7A8DDE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1B5-5C85-4FF8-B9BC-040424C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F7F-AEA7-4FD1-8C8A-36B217F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AFD-E0B5-4D0F-BA00-144CE30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30D-3325-4C5A-BDE4-C429D5A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160-1E6F-4C59-A962-A21855D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FB6-451A-400B-9B01-EE33493A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ZZ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655308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499400">
            <a:off x="0" y="691920"/>
            <a:ext cx="4224240" cy="1035000"/>
          </a:xfrm>
          <a:prstGeom prst="rightArrow">
            <a:avLst>
              <a:gd name="adj1" fmla="val 50000"/>
              <a:gd name="adj2" fmla="val 10203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miglioramento dei mezzi 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496600">
            <a:off x="0" y="3212640"/>
            <a:ext cx="4248000" cy="1224000"/>
          </a:xfrm>
          <a:prstGeom prst="rightArrow">
            <a:avLst>
              <a:gd name="adj1" fmla="val 50000"/>
              <a:gd name="adj2" fmla="val 867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iglioramento dei 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3284640"/>
            <a:ext cx="165564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08360" y="3357720"/>
            <a:ext cx="215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013360"/>
            <a:ext cx="25210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653000"/>
            <a:ext cx="252108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Stili di vita piu’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95280" y="3284640"/>
            <a:ext cx="13683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5661000"/>
            <a:ext cx="309708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3573360"/>
            <a:ext cx="2890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877000"/>
            <a:ext cx="3059280" cy="36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olazione 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2276640"/>
            <a:ext cx="381636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8243640" y="2565000"/>
            <a:ext cx="14436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692280"/>
            <a:ext cx="266400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grazione e città multietn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29Z</dcterms:created>
  <dc:creator>studente</dc:creator>
  <dc:description/>
  <dc:language>en-US</dc:language>
  <cp:lastModifiedBy>studente</cp:lastModifiedBy>
  <dcterms:modified xsi:type="dcterms:W3CDTF">2016-12-05T07:56:59Z</dcterms:modified>
  <cp:revision>7</cp:revision>
  <dc:subject/>
  <dc:title>Diapositiva 1</dc:title>
</cp:coreProperties>
</file>